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png" ContentType="image/png"/>
  <Override PartName="/ppt/media/image10.gif" ContentType="image/gif"/>
  <Override PartName="/ppt/media/image11.gif" ContentType="image/gif"/>
  <Override PartName="/ppt/media/image14.png" ContentType="image/png"/>
  <Override PartName="/ppt/media/image9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6.png" ContentType="image/png"/>
  <Override PartName="/ppt/media/image20.gif" ContentType="image/gif"/>
  <Override PartName="/ppt/media/image18.gif" ContentType="image/gif"/>
  <Override PartName="/ppt/media/image4.png" ContentType="image/png"/>
  <Override PartName="/ppt/media/image17.gif" ContentType="image/gif"/>
  <Override PartName="/ppt/media/image3.png" ContentType="image/png"/>
  <Override PartName="/ppt/media/image16.gif" ContentType="image/gif"/>
  <Override PartName="/ppt/media/image15.gif" ContentType="image/gif"/>
  <Override PartName="/ppt/media/image1.png" ContentType="image/png"/>
  <Override PartName="/ppt/media/image21.gif" ContentType="image/gif"/>
  <Override PartName="/ppt/media/image19.gif" ContentType="image/gif"/>
  <Override PartName="/ppt/media/image2.png" ContentType="image/png"/>
  <Override PartName="/ppt/media/image22.gif" ContentType="image/gi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E82D-D2C6-44F7-A6EC-C11ABAA63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56A4-5BB2-4F61-8050-C63240EAF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5379F3-522D-48AD-B844-46FE68CD6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4120CE-6C67-4C6B-A11E-F5AD02AB5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880F08-F6D4-4C21-BDDF-B78E07C39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EB2E11-550A-45DE-8ACE-C0F96C64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881B65-6895-4075-8D65-F59481B0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F20CA7-B112-4F01-9983-356C0983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36CAB0-DD84-403E-B3AD-A168D2AE2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747FAD-18AD-421C-A9B4-71093EB57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B7933F-99EA-43C6-BBED-804530642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936C9A-928F-421C-A044-419980279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E0A5-7084-4671-B868-990992337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F5CD8E-E6A8-4C3D-B8A5-56A555650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2D2D89-D162-4D19-BB4A-732F9BDA6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0F1957-525E-4C98-BE27-054266034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89DDB6-C997-47CB-961B-D4D3367CB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686DF9-2B1E-42D6-8485-CEEC08469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8A8313-852F-4A1D-B4D4-2F60E4CC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5DA15B-BC00-40B2-B438-91EEDFA7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E1D0AC-87DF-4B92-8810-22ACC166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D74EB7-3118-4A72-B035-5DEA92039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A5899D-F436-48B7-B21E-499848239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0491-D298-458F-A4BD-8A3E5E982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5DEDE3-A9AF-4852-986B-35D4953BD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591BD3-E52B-487C-B552-D87EB37DD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386529-CA14-4848-A956-946B3CD50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165F72-D271-4686-85B6-B05E17130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A1E912-713F-4DB8-87F1-8073366E5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D04982-C875-41DE-86D3-D6C97B408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58B825-5A3D-4BA6-A2A9-CD897AAFF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712D7F-9D6C-425D-9530-261ACDAD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5C309F-5E9A-4011-9185-7D220A93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933D47-A9F6-4ECD-B0AA-7C0217B6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F97F9-2730-400B-A556-47319A96C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555D0D-16BA-4A21-B993-777C50EC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6287A7-BE1A-4DB6-8FA9-38D00CC82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A20641-5117-4710-8BC4-C5B55F7F5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D660BA-7243-484D-AF61-0185EF2EB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149D8F-2C04-4B25-8508-581FFAEA3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E679AD-5A33-4842-901B-A295FA2D2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9000AE-919D-46F0-B5E1-ECC1D09FB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7B90F0-1866-44BA-BD93-F73DB255A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0845B4-1668-44CE-AFD4-C09FF09C9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26AB5F-FF83-4A7F-9520-0EDF44B6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C8283-7733-4830-847B-28A3B0511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E4B289-9C16-4728-AEAD-1C135CE3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8EEC6D-CC0E-42EA-AF26-7B8494F6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C487CF-49B7-4069-B540-31E559CD6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3F1BAF-2B36-471E-9385-AB1F76472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26A3EE-DAFF-4942-BBCC-C638545A6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11042-D5BF-4136-B2C7-E1121F757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32A08-4FE4-4EE6-85A2-0C5291E17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F360A-3BEA-4BDF-AC5D-975CCE4E4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29023-3DEC-48AF-BB6E-3AFB60E37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E137F-7DF2-42E3-B8D3-A2FCF1C7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517B-FD84-4E2C-9AE4-52EFCFD84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DA420-657C-4BEC-ADBA-D7D7A39D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CE687-64AA-453A-98C9-1A34CC77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D5974-5D27-4716-837E-32C8CA74E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411C9-DB99-4DC1-866F-E24186A13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67540-90D0-497F-B503-785857BA3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141F2-FCD2-4FC1-8FA0-2C75C43FC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3840C-520B-447E-97A2-E4E23C29F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91A65-9073-4165-B3CB-4BF36EBBD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26CB1-24BF-4B3B-936F-FD7DCBC68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2BEB4-139C-4BEF-BAC4-004F2EB13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BA35-FA65-42E1-B511-22220AAC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12FE5-8526-4DA9-A1DB-55D415302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58672-7550-4F7E-9A40-E0CD6FA9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F2441-8334-4581-8957-EF01159C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9B1C0-4AB5-4EE4-9320-DD484195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3A664-D55C-4136-B874-763FC261B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4E460-C4FD-40CC-A42A-BA1603541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F3F0B-A847-4CA8-9D44-169741914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DB191-39C8-4A9F-8139-302072DF8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96AF3-AD13-4BDB-B48B-EFDEE1F58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3A796-7FEA-483E-9E04-8A8454080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68F4-17FB-4C68-9146-31A398061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FAD03-9190-42EE-9DD6-636130260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ABAF6-89C0-4DD4-B9B2-8517223C0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3B463-E7D5-499A-AFB6-81605596F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31716-F2B2-4A0D-9592-C304E9DB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B19DD-9BCE-4960-8448-D58761EE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170D1-BEDE-4F8F-987C-3F1EFA78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889F9-E78F-44AB-9B85-010BFC1DB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A5B2D-6C82-40AB-A3C3-45DC9CE0B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FC6BF-EA9D-4C4A-A056-F0528A370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2CD9B-BE45-4102-AA52-B7B5EE8C0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1327-0CE3-43AC-8759-11A34B834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FE3D8-ADF0-424F-A2E2-3E001C19E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2BBF7-45E8-4512-BB90-8EE16953D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3F37C-169D-4A0B-8571-16AF0E73F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1ABCF-F7B2-4434-8BC2-536B108EB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A1749-580D-4C71-892C-979B498F9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5CB07-0C43-4C86-B64C-F926858A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CA46B5-76C1-4DB7-AC61-C139DDC0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14A1E-6C95-429A-9DF3-6306DB10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E875D-30A0-49BD-B6DD-D753BAAA2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77D64-8CBC-4F32-8552-D73DB53DC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7BA5-2852-4440-ACD3-3F51F5899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66E9F-0810-4160-B82A-68E6A7CE1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26F71-7CEC-44C8-BF48-4FD25EACB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F1A16-08D4-4CDB-AB82-C4D69DAA8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18936B-B4AB-4FB2-8604-12EB18125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5611B9-571C-4682-99F6-BA58C873E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04EC2-7D52-46CE-88A3-77DF3E013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70D5F4-58B0-43C2-889F-4B5EB3AC1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96ECBA-676E-479D-B5D9-13B06261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46B4C-3723-4988-B594-F837C31D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66062-F4FE-4C69-92CF-F99B2F03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EDB7-17A0-4315-87CF-75574F46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49010-BB46-4D39-819E-41EA28144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E7F55-E4AC-4CAD-B1DC-3AF0292CB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A5773-5861-4E9B-80AD-F8B5E45C6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45001-A28C-45D8-9754-828802D57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36D2C-6D45-4B60-8E14-B2AECD370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A8D029-C0BB-484D-B18F-12B71583F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5F2BF6-E2DF-44FF-A043-431EDB987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F8C27-0B72-497C-B4EC-DE9773907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C39D2-49EB-4E79-8029-523059AE2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A9B01A-3176-4221-B70C-E5F0188B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6098-E960-47A0-A69F-BA826808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4C6AE-874D-4695-BEFA-514DDE0A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2B49E6-014F-4C99-A15B-B1688823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609672-79CF-4398-82B5-3A2C2436C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E65E7-BF5B-458A-9298-43D6317D1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F0A1CF-62E8-4D52-BC7A-6532FB461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08AB39-1130-48A5-BC62-DDE8FE44F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0BC299-6DF3-4C23-996C-8D07B1572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2E747-70E3-4541-9FB6-3B6FF496C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8CA218-2BAB-4596-80B4-60F04DD5D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C5852-1B61-4CCB-AA0B-4A4AD7FD2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F25A-5C34-4D0D-A43F-D956B031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790855-7E3D-447A-8C08-11A07DD85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2E5F07-8DDC-4F5C-A7D7-E8CA50A5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CF7C7E-3F3B-4836-B5C2-C96B9639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996904-6264-41C3-BDED-463647EA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8D886-142A-4467-8A15-BE2B8522E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624EB1-41A4-4015-813E-215530450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35DFB3-DDB7-47A9-B0CE-F16DB2121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82E210-678E-4E98-87E6-564253D4C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BDB479-DDD4-4B5E-8AB2-E5A27448E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9E4B7F-B765-4B51-93C5-7DA1E9C9A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4A5D-8379-4FD1-AA2B-9D455E0FED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A50C6-8680-4A31-8D46-3DF503855E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74A00-380B-4B36-AACA-C9A41E8615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8965A-C2CD-4643-8035-5404CA4E17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610A6-BA6A-4177-9CA6-55268F9B72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57C14-F6D8-489E-AD25-A6857CFDEE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D8823-F562-4118-92F1-531FB4E8F0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9AAE9-FD30-4EAF-8717-6AB1A78198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1EDFB-8612-4E1E-84FE-1626FF3D1A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38868-0AF7-4E30-8F15-39C607343F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22217-73E1-41A2-9296-1B0CA8E49ED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ECCF6-2535-4950-8758-5E5D218F2E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hyperlink" Target="http://uk.bloggif.com/images/GIF-animes/Emoticone/Emoticone-grimace/Emoticone-grimace-img12483" TargetMode="External"/><Relationship Id="rId4" Type="http://schemas.openxmlformats.org/officeDocument/2006/relationships/image" Target="../media/image7.gif"/><Relationship Id="rId5" Type="http://schemas.openxmlformats.org/officeDocument/2006/relationships/hyperlink" Target="http://uk.bloggif.com/images/GIF-animes/Planete/Terre/Terre-img18358" TargetMode="External"/><Relationship Id="rId6" Type="http://schemas.openxmlformats.org/officeDocument/2006/relationships/image" Target="../media/image8.gif"/><Relationship Id="rId7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hyperlink" Target="http://uk.bloggif.com/images/GIF-animes/Artiste/Chanteur/Chanteur-img8325" TargetMode="External"/><Relationship Id="rId7" Type="http://schemas.openxmlformats.org/officeDocument/2006/relationships/image" Target="../media/image10.gif"/><Relationship Id="rId8" Type="http://schemas.openxmlformats.org/officeDocument/2006/relationships/hyperlink" Target="http://uk.bloggif.com/images/GIF-animes/Dollz/Dollz-banniere/Dollz-banniere-img11244" TargetMode="External"/><Relationship Id="rId9" Type="http://schemas.openxmlformats.org/officeDocument/2006/relationships/image" Target="../media/image11.gif"/><Relationship Id="rId10" Type="http://schemas.openxmlformats.org/officeDocument/2006/relationships/hyperlink" Target="http://uk.bloggif.com/images/GIF-animes/Artiste/Chanteur/Chanteur-img8314" TargetMode="External"/><Relationship Id="rId11" Type="http://schemas.openxmlformats.org/officeDocument/2006/relationships/image" Target="../media/image12.gif"/><Relationship Id="rId1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hyperlink" Target="http://uk.bloggif.com/images/GIF-animes/Aliment/Legume/Legume-img5774" TargetMode="External"/><Relationship Id="rId4" Type="http://schemas.openxmlformats.org/officeDocument/2006/relationships/image" Target="../media/image16.gif"/><Relationship Id="rId5" Type="http://schemas.openxmlformats.org/officeDocument/2006/relationships/hyperlink" Target="http://uk.bloggif.com/images/GIF-animes/Aliment/Legume/Legume-img5769" TargetMode="External"/><Relationship Id="rId6" Type="http://schemas.openxmlformats.org/officeDocument/2006/relationships/image" Target="../media/image17.gif"/><Relationship Id="rId7" Type="http://schemas.openxmlformats.org/officeDocument/2006/relationships/hyperlink" Target="http://uk.bloggif.com/images/GIF-animes/Aliment/Legume/Legume-img5773" TargetMode="External"/><Relationship Id="rId8" Type="http://schemas.openxmlformats.org/officeDocument/2006/relationships/image" Target="../media/image18.gif"/><Relationship Id="rId9" Type="http://schemas.openxmlformats.org/officeDocument/2006/relationships/hyperlink" Target="http://uk.bloggif.com/images/GIF-animes/Aliment/Legume/Legume-img5781" TargetMode="External"/><Relationship Id="rId10" Type="http://schemas.openxmlformats.org/officeDocument/2006/relationships/image" Target="../media/image19.gif"/><Relationship Id="rId11" Type="http://schemas.openxmlformats.org/officeDocument/2006/relationships/hyperlink" Target="http://uk.bloggif.com/images/GIF-animes/Aliment/Legume/Legume-img5766" TargetMode="External"/><Relationship Id="rId12" Type="http://schemas.openxmlformats.org/officeDocument/2006/relationships/image" Target="../media/image20.gif"/><Relationship Id="rId13" Type="http://schemas.openxmlformats.org/officeDocument/2006/relationships/hyperlink" Target="http://uk.bloggif.com/images/GIF-animes/Aliment/Legume/Legume-img5780" TargetMode="External"/><Relationship Id="rId14" Type="http://schemas.openxmlformats.org/officeDocument/2006/relationships/image" Target="../media/image21.gif"/><Relationship Id="rId15" Type="http://schemas.openxmlformats.org/officeDocument/2006/relationships/hyperlink" Target="http://data.bloggif.com/distant/gallery/original/4/8/7/5/5784_735b7.gif" TargetMode="External"/><Relationship Id="rId16" Type="http://schemas.openxmlformats.org/officeDocument/2006/relationships/image" Target="../media/image22.gif"/><Relationship Id="rId17" Type="http://schemas.openxmlformats.org/officeDocument/2006/relationships/image" Target="../media/image16.gif"/><Relationship Id="rId18" Type="http://schemas.openxmlformats.org/officeDocument/2006/relationships/image" Target="../media/image16.gif"/><Relationship Id="rId19" Type="http://schemas.openxmlformats.org/officeDocument/2006/relationships/image" Target="../media/image19.gif"/><Relationship Id="rId20" Type="http://schemas.openxmlformats.org/officeDocument/2006/relationships/image" Target="../media/image19.gif"/><Relationship Id="rId2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160"/>
            <a:ext cx="6400800" cy="21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646b86"/>
                </a:solidFill>
                <a:latin typeface="Georgia"/>
              </a:rPr>
              <a:t>GRUPA II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b86"/>
                </a:solidFill>
                <a:latin typeface="Georgia"/>
              </a:rPr>
              <a:t>BODEA ANGELO ALEXANDRU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b86"/>
                </a:solidFill>
                <a:latin typeface="Georgia"/>
              </a:rPr>
              <a:t>DAVID LUCAS ALEX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b86"/>
                </a:solidFill>
                <a:latin typeface="Georgia"/>
              </a:rPr>
              <a:t>IANCE CARINA OTILIA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b86"/>
                </a:solidFill>
                <a:latin typeface="Georgia"/>
              </a:rPr>
              <a:t>MOLNAR ALEX CRISTIAN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b86"/>
                </a:solidFill>
                <a:latin typeface="Georgia"/>
              </a:rPr>
              <a:t>POLGAR ROBERT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b86"/>
                </a:solidFill>
                <a:latin typeface="Georgia"/>
              </a:rPr>
              <a:t>SABOU RADU ŞTEFAN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Procent</a:t>
            </a:r>
            <a:br>
              <a:rPr sz="4200"/>
            </a:b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Aplica</a:t>
            </a:r>
            <a:r>
              <a:rPr b="0" lang="ro-RO" sz="4200" spc="-1" strike="noStrike">
                <a:solidFill>
                  <a:srgbClr val="d16349"/>
                </a:solidFill>
                <a:latin typeface="Georgia"/>
              </a:rPr>
              <a:t>ţii practice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oblema nr. 1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Un televizor costă 480 lei. Preţul lui se reduce cu 5 %.Cât va costa televizorul după reducere?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0" name="Picture 5" descr=""/>
          <p:cNvPicPr/>
          <p:nvPr/>
        </p:nvPicPr>
        <p:blipFill>
          <a:blip r:embed="rId1"/>
          <a:stretch/>
        </p:blipFill>
        <p:spPr>
          <a:xfrm>
            <a:off x="2000160" y="4429080"/>
            <a:ext cx="1714680" cy="123336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6" descr=""/>
          <p:cNvPicPr/>
          <p:nvPr/>
        </p:nvPicPr>
        <p:blipFill>
          <a:blip r:embed="rId2"/>
          <a:stretch/>
        </p:blipFill>
        <p:spPr>
          <a:xfrm>
            <a:off x="5572080" y="2000160"/>
            <a:ext cx="2428920" cy="35006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oblema nr. 2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O bicicletă costă 220 lei. Preţul se măreşte cu 15%. Cât va costa bicicleta după scumpire?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4" name="Picture 6" descr=""/>
          <p:cNvPicPr/>
          <p:nvPr/>
        </p:nvPicPr>
        <p:blipFill>
          <a:blip r:embed="rId1"/>
          <a:stretch/>
        </p:blipFill>
        <p:spPr>
          <a:xfrm>
            <a:off x="1785960" y="3429000"/>
            <a:ext cx="1214280" cy="221472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7" descr=""/>
          <p:cNvPicPr/>
          <p:nvPr/>
        </p:nvPicPr>
        <p:blipFill>
          <a:blip r:embed="rId2"/>
          <a:stretch/>
        </p:blipFill>
        <p:spPr>
          <a:xfrm>
            <a:off x="4857840" y="2214720"/>
            <a:ext cx="3929040" cy="32954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oblema nr. 3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457200" y="1481040"/>
            <a:ext cx="4757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Un atlas costă 50lei. Cât ar costa atlasul dacă: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a) S-ar ieftini cu 20 %;                             b) s-ar scumpi cu 15%?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8" name="Picture 2" descr="D:\Documents and Settings\Radu\Local Settings\Temporary Internet Files\Content.IE5\AC2XBSU6\MC900055226[1].wmf"/>
          <p:cNvPicPr/>
          <p:nvPr/>
        </p:nvPicPr>
        <p:blipFill>
          <a:blip r:embed="rId1"/>
          <a:stretch/>
        </p:blipFill>
        <p:spPr>
          <a:xfrm>
            <a:off x="4800600" y="2151000"/>
            <a:ext cx="4038480" cy="312264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5" descr=""/>
          <p:cNvPicPr/>
          <p:nvPr/>
        </p:nvPicPr>
        <p:blipFill>
          <a:blip r:embed="rId2"/>
          <a:stretch/>
        </p:blipFill>
        <p:spPr>
          <a:xfrm>
            <a:off x="1214280" y="3929040"/>
            <a:ext cx="2143440" cy="150012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9" descr="Emoticone grimace (110x90px)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72200" y="357120"/>
            <a:ext cx="1047960" cy="85716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11" descr="Terre (90x90px)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929120" y="5357880"/>
            <a:ext cx="857160" cy="8571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oblema nr. 4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624"/>
              </a:spcBef>
              <a:buClr>
                <a:srgbClr val="d16349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624"/>
              </a:spcBef>
              <a:buClr>
                <a:srgbClr val="d16349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La un spectacol s-au vândut 3300 de bilete de trei categorii: 20% cu preţul de 12 lei biletul, 43% cu preţul de 10 lei biletul iar restul cu preţul de 7 lei biletul. Calculaţi suma totală încasată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4" name="Picture 5" descr="C:\Users\User\Desktop\sexyopr000lxanrw6[1].gif"/>
          <p:cNvPicPr/>
          <p:nvPr/>
        </p:nvPicPr>
        <p:blipFill>
          <a:blip r:embed="rId1"/>
          <a:stretch/>
        </p:blipFill>
        <p:spPr>
          <a:xfrm>
            <a:off x="5000760" y="1571760"/>
            <a:ext cx="838080" cy="114300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5" descr="C:\Users\User\Desktop\sexyopr000lxanrw6[1].gif"/>
          <p:cNvPicPr/>
          <p:nvPr/>
        </p:nvPicPr>
        <p:blipFill>
          <a:blip r:embed="rId2"/>
          <a:stretch/>
        </p:blipFill>
        <p:spPr>
          <a:xfrm>
            <a:off x="6143760" y="1500120"/>
            <a:ext cx="838080" cy="114300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5" descr="C:\Users\User\Desktop\sexyopr000lxanrw6[1].gif"/>
          <p:cNvPicPr/>
          <p:nvPr/>
        </p:nvPicPr>
        <p:blipFill>
          <a:blip r:embed="rId3"/>
          <a:stretch/>
        </p:blipFill>
        <p:spPr>
          <a:xfrm>
            <a:off x="6786720" y="2143080"/>
            <a:ext cx="838080" cy="114300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5" descr="C:\Users\User\Desktop\sexyopr000lxanrw6[1].gif"/>
          <p:cNvPicPr/>
          <p:nvPr/>
        </p:nvPicPr>
        <p:blipFill>
          <a:blip r:embed="rId4"/>
          <a:stretch/>
        </p:blipFill>
        <p:spPr>
          <a:xfrm>
            <a:off x="5643720" y="2214720"/>
            <a:ext cx="838080" cy="114300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5" descr="C:\Users\User\Desktop\sexyopr000lxanrw6[1].gif"/>
          <p:cNvPicPr/>
          <p:nvPr/>
        </p:nvPicPr>
        <p:blipFill>
          <a:blip r:embed="rId5"/>
          <a:stretch/>
        </p:blipFill>
        <p:spPr>
          <a:xfrm>
            <a:off x="7286760" y="1500120"/>
            <a:ext cx="838080" cy="114300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11" descr="Chanteur (59x120px)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357960" y="2857680"/>
            <a:ext cx="500040" cy="101736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13" descr="Dollz banniere (400x150px)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786280" y="4500720"/>
            <a:ext cx="2303640" cy="85716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15" descr="Chanteur (116x170px)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4857840" y="3143160"/>
            <a:ext cx="876240" cy="1285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oblema nr. 5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624"/>
              </a:spcBef>
              <a:buClr>
                <a:srgbClr val="d16349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624"/>
              </a:spcBef>
              <a:buClr>
                <a:srgbClr val="d16349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Georgia"/>
              </a:rPr>
              <a:t>Un agent imobiliar vinde un apartament la preţul de 34000 lei. Pentru tranzacţia făcută, el percepe un comision de 1% de la cumpărător şi 2% de la vânzător. Ce comision va primi agentul?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480060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624"/>
              </a:spcBef>
              <a:buClr>
                <a:srgbClr val="d16349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5" name="Picture 3" descr="D:\Documents and Settings\Radu\Local Settings\Temporary Internet Files\Content.IE5\2SR258PM\MC900434807[1].png"/>
          <p:cNvPicPr/>
          <p:nvPr/>
        </p:nvPicPr>
        <p:blipFill>
          <a:blip r:embed="rId1"/>
          <a:stretch/>
        </p:blipFill>
        <p:spPr>
          <a:xfrm>
            <a:off x="4643280" y="1785960"/>
            <a:ext cx="3929400" cy="39290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oblema nr. 6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Prin sortarea legumelor se pierde 7% din cantitate. C</a:t>
            </a:r>
            <a:r>
              <a:rPr b="0" lang="ro-RO" sz="2500" spc="-1" strike="noStrike">
                <a:solidFill>
                  <a:srgbClr val="000000"/>
                </a:solidFill>
                <a:latin typeface="Georgia"/>
              </a:rPr>
              <a:t>âte kilograme de legume rămân după sortarea a 13 700 kg de legume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8" name="Picture 5" descr=""/>
          <p:cNvPicPr/>
          <p:nvPr/>
        </p:nvPicPr>
        <p:blipFill>
          <a:blip r:embed="rId1"/>
          <a:stretch/>
        </p:blipFill>
        <p:spPr>
          <a:xfrm>
            <a:off x="1214280" y="4429080"/>
            <a:ext cx="2214720" cy="14526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8" descr="Carrot_jumps"/>
          <p:cNvPicPr/>
          <p:nvPr/>
        </p:nvPicPr>
        <p:blipFill>
          <a:blip r:embed="rId2"/>
          <a:stretch/>
        </p:blipFill>
        <p:spPr>
          <a:xfrm>
            <a:off x="7929720" y="3143160"/>
            <a:ext cx="771480" cy="205740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8" descr="Legume (84x113px)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15040" y="4786200"/>
            <a:ext cx="800280" cy="107640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10" descr="Legume (61x80px)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572240" y="285840"/>
            <a:ext cx="581040" cy="76176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12" descr="Legume (98x110px)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929120" y="1714680"/>
            <a:ext cx="933480" cy="128556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14" descr="Legume (68x85px)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143680" y="3714840"/>
            <a:ext cx="647640" cy="80964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16" descr="Legume (76x144px)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357960" y="2286000"/>
            <a:ext cx="961920" cy="182880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18" descr="Legume (120x120px)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500040" y="214200"/>
            <a:ext cx="1071720" cy="107172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20" descr="Legume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6643800" y="1643040"/>
            <a:ext cx="1971720" cy="78588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8" descr="Legume (84x113px)"/>
          <p:cNvPicPr/>
          <p:nvPr/>
        </p:nvPicPr>
        <p:blipFill>
          <a:blip r:embed="rId17"/>
          <a:stretch/>
        </p:blipFill>
        <p:spPr>
          <a:xfrm>
            <a:off x="6367320" y="4938840"/>
            <a:ext cx="800280" cy="107604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8" descr="Legume (84x113px)"/>
          <p:cNvPicPr/>
          <p:nvPr/>
        </p:nvPicPr>
        <p:blipFill>
          <a:blip r:embed="rId18"/>
          <a:stretch/>
        </p:blipFill>
        <p:spPr>
          <a:xfrm>
            <a:off x="6519960" y="5091120"/>
            <a:ext cx="799920" cy="107640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14" descr="Legume (68x85px)"/>
          <p:cNvPicPr/>
          <p:nvPr/>
        </p:nvPicPr>
        <p:blipFill>
          <a:blip r:embed="rId19"/>
          <a:stretch/>
        </p:blipFill>
        <p:spPr>
          <a:xfrm>
            <a:off x="5295960" y="3867120"/>
            <a:ext cx="647640" cy="80964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14" descr="Legume (68x85px)"/>
          <p:cNvPicPr/>
          <p:nvPr/>
        </p:nvPicPr>
        <p:blipFill>
          <a:blip r:embed="rId20"/>
          <a:stretch/>
        </p:blipFill>
        <p:spPr>
          <a:xfrm>
            <a:off x="5448240" y="4019400"/>
            <a:ext cx="647640" cy="8096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1"/>
          <p:cNvSpPr/>
          <p:nvPr/>
        </p:nvSpPr>
        <p:spPr>
          <a:xfrm>
            <a:off x="1571760" y="2214720"/>
            <a:ext cx="5715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Manuale şi auxiliare didactice, culegeri de probl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D. Branzei, D. Zaharia, M. Zaharia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方正舒体"/>
              </a:rPr>
              <a:t>–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Mate 2000 + 10/11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, Editura Paralela 45, cls. a V-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G. Turcitu, I. Rizea, C. Basarab, M. Duncea, P. Ciungu, I. Chiriac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方正舒体"/>
              </a:rPr>
              <a:t>–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Manual  pentru clasa a V-a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 , Ed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itura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 Radical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Documentaţie diversă in format electronic, site-uri 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http://images.google.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1"/>
          <p:cNvSpPr/>
          <p:nvPr/>
        </p:nvSpPr>
        <p:spPr>
          <a:xfrm>
            <a:off x="2643120" y="85716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9999"/>
                </a:solidFill>
                <a:latin typeface="Arial"/>
              </a:rPr>
              <a:t>Bibliograf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2T17:19:58Z</dcterms:created>
  <dc:creator>Ionica</dc:creator>
  <dc:description/>
  <dc:language>en-US</dc:language>
  <cp:lastModifiedBy>User</cp:lastModifiedBy>
  <dcterms:modified xsi:type="dcterms:W3CDTF">2011-01-25T15:37:11Z</dcterms:modified>
  <cp:revision>13</cp:revision>
  <dc:subject/>
  <dc:title>Slide 1</dc:title>
</cp:coreProperties>
</file>